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CAA0-ECC8-4D5C-8168-79AB0906B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B10A-6927-4FBD-A750-14B76EB58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1CE2EF-60CB-47BF-8A92-607C3EF6E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B10DF-9414-437D-8031-7E65BBA7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CA55D2-699C-4964-907A-6259A27F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8DB05C-3591-4F13-B1F8-692F325B4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9345DF-E940-45B2-897B-E8115868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D48901-4301-4FAB-A311-76A30075F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F1E3F-79B6-4505-A4A1-7EB0AF90A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CB89A5-ECD5-4F53-9B1E-173408B35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96B5E3-3E42-4F18-A91B-ED59D3EDC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D7EBB-1F59-4632-9ECB-2B345654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C2A4-4E9E-4A61-ACA8-FDB31626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FE453E-4B91-4F82-A599-175E95AE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0BCA99-A009-4AA3-A8BC-3F200B772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5A894-859D-490E-95E2-30E2CF569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910696-DF62-4FA6-BA8E-61CCD65F7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BC61B4-43A5-426C-8713-31D766A00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D8C561-700A-4285-BE08-0698EEDB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396510-8F3B-41E8-8A59-980E8C38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A03C19-956E-4607-964F-57058034C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01BC27-6BF4-4A56-BAB6-2065211E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4A321-5AF7-4106-B8CC-3F650158C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7247D-3D62-46BA-AA0A-BC5FDEE81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CEC47-E4A9-48F4-944A-55F3E8106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11131E-D5D7-4D2E-A83D-777E5F412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96F8B6-C67D-4144-A4B0-D17219C8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7154AC-6B0D-4346-8A17-8308E20B6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8CDFB-89C3-49E1-9285-1AA81A928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1489FF-11C6-4D6C-99C7-D65B48B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A939C3-C5A2-4D6E-818F-140A16586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DF466-BB52-4F2B-8EA1-0691124A7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355AB7-448C-43AD-A6B6-662747C58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7F7E3-8DBC-475E-8FA3-A609FCF2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17AC8-15E7-48B6-93C7-74244C4C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65EA5A-8940-4BB9-8DAE-D6E2041C1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657FEF-E291-45EB-85EA-B2D9CF02E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7512B-A42E-4F4C-9D7F-C82F8F6BB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F16B12-A173-4AB3-B541-FEB393877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A56931-7F29-49DB-9430-BF66637C3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2A4880-B8D6-44A2-9FBB-D270163A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94CD7C-A6C7-4361-980C-20E7069CB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2C2739-0198-4713-ADF6-FA0EE8D3B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C03B0C-BAE7-4DE6-A6A9-BC30F483E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B49DDB-E48B-4C94-84E6-F7FE5D7A5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ADDB-D26A-4902-88D1-BF15EA1DB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93942-501F-4F45-8ACD-5A1FA5708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A6712D-93B1-4B0F-BB4D-D0F56269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7E24F2-50D4-4CA3-9DB6-9106CF08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77DB07-16BB-4D11-9127-2324B5E31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7F7875-3993-4113-BBD9-83AA8ED5D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5972EA-819C-45F7-AF59-B37517F5EC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12C90-7F17-4840-840A-F57502A1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55C440E-C06A-48A8-905F-907688CE1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A918BF-F388-49BE-AE97-1D389365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F18A17-83B7-4E15-9F48-F230E98BC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7B950-71D3-4873-A614-95F0830E9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48677D-7EDF-43DF-952F-624ED6583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39A652-63CD-4E46-84FD-E9A863AEB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CEBB9-8BE2-4B79-8179-FB583E67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9DF2C-C5B2-4AD4-8F3B-8F0EFAA4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D046F7-117A-4516-A09C-CCAD7E31E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72B568-100B-4425-A7F6-CBB2FB0A7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572847-D523-4CEA-9C30-443E0BEDC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9A96B-8B1B-4C95-9801-8A7ED443F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D921E4-6897-4AF8-80A5-BFDFDC7E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DEDE97-828C-4951-8E5A-999E9A508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B21BD-05EC-401B-AC42-4E783C0DC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95C5AC-046D-456E-939B-1BB2CC2B5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49F051-7051-40DA-844B-524CCC61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391A2B-4222-4C55-BE11-87E0A65AF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2A10A4-F77A-4A9F-851E-C198F1454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B009774-E133-4D7A-9143-2FE142695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599A4D-7B08-4BCB-87D6-A1C3C7C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8A9A5-F757-4295-BB6D-408DB2717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45CBA8-2B04-4727-807D-D03C439F2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80137B-21B4-42E3-8A86-84D28BE8D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D8D58-12C3-4B27-BE89-D61BD699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2D428-6938-4223-B4F2-BF4A641C2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632554-E008-4532-91B7-A9AF68466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252B11-3CBC-4879-AF52-CBA354B28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C131CD-7307-4BDA-8120-20C895BC1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81217D-4CCC-47DA-A836-AFD822949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138D78-D433-49EE-811F-12DD1D4EC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8B09EF-266D-4430-B1A5-301BA38DB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5FFDB4-C590-464C-AF77-4B6A91F3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CB3148-8C90-48EF-91FC-F013F281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E93E63-1BC7-4E20-9E35-A4B7A793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12BAE-B8E1-4EC4-9821-03FFBCD5D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A7C0-2C5E-4963-AB8A-4A3EC2A9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183FC8-DDA1-44B6-BAE0-2EAFFFAFA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20A061-2682-4F95-8CF2-A82A8C11B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F34FA9-EC9F-41D1-AC86-E8958D5C6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7B8D95-9076-4AAD-9221-677505F7C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40C84C-6F09-4E7E-835A-8145D6BB6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C9F78AB-68B5-4B04-8858-21025EDA3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C99E4E0-76D3-48B6-8BD5-DC4C3B47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6D783-1389-4BEE-88A4-30263428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F151E-D8DB-470D-8BA7-FA600E3A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07CEBB-4523-4200-B84B-C2E425264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0F42-4A87-4ED2-8517-ED53705CF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9A554BA-5E2C-4411-9EF8-2017FEEC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AE5FC77-9123-4C12-825A-FB389202B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7C5171-EA86-411E-AF83-207DB5C08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34B359-1E45-4745-9FA8-015FA5DA4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510C2F-4691-4B17-AF52-FC06855CA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B88BAC-B731-4E2C-8074-13246AE9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CB069B-BC68-4BDA-83C3-C18970F3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CEB90E-AEF6-4657-9AEB-3FCAED508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6465B7-542A-4A98-8685-1F30F1199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41FC332-456D-44CB-B044-7AEC422B0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11581-6809-486C-8C34-B15A568C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E366F-67AF-40DE-9DE5-76E1FBD0D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15C1FD-9620-441B-9FC1-59A57400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00CDCA9-D6DA-468B-8F99-12C8B67A8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9A65FB-7852-416F-8CAD-A0BD2CEA2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7F1A99A-3A8C-4292-9B34-58159B99E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7AC43A-5C4C-4A0B-8598-91F32A0B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4EB950-781A-41B5-9131-06EB36921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DEB50E-7F44-40A0-861A-13129D2C4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32C4FC-6B6C-4476-A831-69B670FB5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360881-2C38-4CAB-B6D6-0A2C8058E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E1CF6-A7C0-466E-B2EA-2636C58AF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A87E-F5BA-4AE9-BE97-A152E569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DA6D74B-13D2-45AD-B13E-B287C9AC9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1C3D8E-BAD9-48C0-B393-EE6F02F3E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B09DDA2-4C75-4F81-A8F1-8429083A8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9A83BE-69F7-4543-8D76-7B088BEBB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2DF0F6-092D-407F-953A-1C8DE175E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0631D5-5386-44FF-ABD1-9A4D7ADDA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8269F1-BB56-4DC7-BF71-177D5F420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6468FCC-DF77-4E48-A5EA-EB8C76190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14649A-9EB1-4F47-A12D-2CE0CD1A3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0E2473-944A-4992-BFD8-B48D0AAE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967D3-CBCC-4225-BCBF-53AB89EA4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2F1AA4-9936-4DCD-9550-A4A1E570D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1A0B9D-BC26-40F1-87AE-1208CBA0D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D0786B-B48F-412B-B87F-52A11FC6C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8C49F9-B188-47BE-8F91-B6899300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F5D62AF-4760-4B7C-9601-DE45B8B0B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0BAABB-3A6B-4522-BF75-B5F50E50B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626CB4-BFA8-48A1-B3F4-3DDEE9E15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C69727A-A1E1-4C87-B245-3FD6EB6C5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C5E159-350B-4C65-A9B7-85DDE7B1A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0A1051-EEBA-4E8F-9201-2C8E75226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300A6-78D9-454B-9EED-B883D5F1F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2DD92A-BA31-4F77-A578-D5C611EAF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7727DCD-52DA-42D9-83AF-1F6D5245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BF6C7E-E764-4F35-B5AE-1EEE467A6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8A160F-59D8-46D1-B008-9E49CDC6D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180C77-84C9-4839-AB65-A7149BBA6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945E5-DA44-446E-B1E1-AD5ED2C64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C25EFB-E8FB-45DA-9A31-A8B5200F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A6DED-09AD-4701-92D2-8A11D1881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738B78-4449-425D-ABC1-BE054455F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359DC3-8E37-420F-BB76-B50712AE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7B7D2-5ED0-420C-AC20-83E8617578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1520D3-0F2E-42A4-8A8C-056393D25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C1B662-F049-4E3A-B3E8-684545D54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0C92656-0693-4F41-A5F4-FE5A67F0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8290A0-5449-45AC-8BFF-B3D0293E7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316258-DCD5-4998-B000-89230BAEF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B3BA35-92F2-4D65-B2AC-B040BA5B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E39A00-83BA-4A1B-AAF0-A4841CB17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E1677-DFFC-40AF-942E-770A84D59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CA60FF-0090-4863-9B08-2AEC0B94D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8D1F59-D4EC-4EEC-B2E5-0D6F0834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CF54A-6AFB-49D1-9AE3-F7A365465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5644E9-7E46-4CAD-84FF-302155DB2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262901-0656-490C-B9AD-8C5D1DE86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5E040-0AC1-4DF2-90B1-A996B3EBE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1AB5B3-24E1-44D7-9F2F-245B31376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E88783-4F7D-470F-867E-D62B9DAC5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63FAA-298D-4418-92B0-499607A7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BD977C-404F-48F8-AC84-BDA6A6C4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8D2-A3CE-4A11-90DC-0D8896BD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F936C1-7EBB-4480-8EAA-B8FB2329D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3465B-1B45-4C0C-9E86-78503040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5590E-F43B-4DDF-A2A1-634666F7E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1783F6-335C-4271-8FC6-364E1873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2C06DA-887A-4263-AF66-DF29A93FC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25887B-D4B5-4726-9334-74F3ADBED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B57CD7-F0C9-4378-9DC7-3DD7ADC8A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5A09D-B5ED-446B-9239-7F6E1D91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C34B22-5704-4928-A9DE-4A855A13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8534A5-0B77-4F56-86D2-13BA90BD7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F0F1-6D2B-4AB9-9ADD-1805481D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483DB-5B00-47F1-AE9C-D74D01124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B509A-E47E-49E0-A1B9-CC8A8B7E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9A066-57DC-4AA8-AC0B-13D14BA8E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F1E310-8CCB-4941-828F-F687F55A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3CFEFE-7A72-4FA3-A61C-4ED9DCA14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276146-F98C-4268-9467-76D4FE87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0F0FB-5E6A-49F7-A61B-1FF98588D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61E204-2345-4564-A78E-5BF66ADC6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15FE3-50DC-4BBC-9242-76206E29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C677C1-9301-40F2-8ACC-6A7E509C5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E9B1-9496-4EE1-B407-6A4F8C29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B9207-2F52-4178-8FAA-F901FA1D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4B416D-6AA8-4F96-AFA4-BC42799A9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8FBB0-3E2F-453E-AD7A-284878E1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06CF83-00B5-4050-B4EA-C021154B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EEA458-5525-4241-854D-6A9F82E7B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B09B0-ACDA-4C23-873A-6003D1DC6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6DCE4-CEEE-4E2A-BD85-4597E5429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5FF526-62BE-4AD4-A6F3-ABE01C0D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A0C0D-0905-4C5E-8265-9341F86F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C382F-EDC5-4676-BFF0-A0192159E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4B64-DAE3-4DD4-94A0-0F45491D8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6B7B3-F36B-4EBB-847F-D1DBFDE4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48129A-E2FC-49F3-BB7A-80032467E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0CE0C-F86D-4F1F-8C4E-138C8FCE8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098DBA-7F04-49E0-A027-54F1E29BB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1814FE-61F4-46C8-80EA-B0488871C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E0A7E9-F9B2-426E-9DE8-B99EAD68D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98DB5-1903-43D3-8879-9354E9BA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B69309-381A-49A7-A1AB-3175E4D5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BACB21-B228-486A-9972-58BA47D5D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694C19-388A-453A-99F6-6FB6FF0ED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97A9-C30B-4F7A-A5BD-77689D8E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00D279-10E6-44EB-8CFD-94FB050E7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EB23A-6046-4D53-A8B2-0BB74680D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1A90F3-D56C-495B-A02E-384C31130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056500-B2CD-4A76-8425-DC457B4E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7775F4-9FB8-4309-BD3C-0948B7B2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4E2FA-D4BE-4B15-8964-F5A625143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EBBD9-31E3-459B-BF0B-E32B86C2F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03CC3B-7651-49BC-AD57-89C651382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81E6D-4F1F-4DA8-961D-A6593E137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2EA51-2B1E-4E57-92C5-BB4FF68C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23F1-7A4B-42AE-93E8-07EE9856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0CC511-2BEA-4069-AC7E-D0C4DF6AE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EFD331-49C4-46B3-BFDE-00890B8ED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75190F-B20F-45C3-9193-0E449E57E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9CE028-E116-4911-9A0D-3658E1612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28BDF2-9D35-41A4-878E-7FEC055CF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244796-E0C4-4EB5-961F-D6A6655B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D42B1-20C0-42EB-BC12-B422C5792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110138-A477-475C-8902-53B73952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D4956-5D2F-4647-90C5-125A49D80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3A5097-0DB8-4EFB-95F3-924AC574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8E57-A389-4254-959B-B5D050148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C6DC64-EBCE-4ED2-807A-F6E1AFC51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149E07-203D-485F-8C11-DEBE3EB1F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B9975-2F2A-43B2-8ED4-3D8A11B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2E1675-D236-4A2A-B26D-3BE3ED8CF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1917CF-840B-4051-BE3A-BFB079DFB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229837-A9DC-463C-AAC5-998EF7C36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519C89-7077-47F0-9EBA-45791F70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51DB49-493C-409B-AD6E-24C4CB79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936A5-0BA5-46D3-8778-4488D0830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137A29-9732-43C0-A236-B897B120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39CB3-CB20-4875-AC26-20C77C7866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7446-52D8-4615-8AF8-14DAE59057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295FA-BECF-4C23-B536-3C405222EE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D7353-A1BE-417D-AE73-F73650E44DC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0AB4-5E95-46AC-936B-718C7E6539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1A2F5-D6B4-4BA6-A401-A39C2BE7EF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2E1D-3E85-472E-B9C7-B528ABC46B1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A4F9-07F1-4FEE-B481-9F169F63EE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5994-A8C3-4542-976A-E486A59757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80608-13D9-4499-9624-D37E680CFA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B14CC-82E5-4A90-8376-F15A5F60E2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05EC5-4B30-4FAB-9BA9-743125FE5F9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C6E1-427D-4D06-B344-76EAEA3DC3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0CDAD-5D5A-4A20-A12A-CA40DBE282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4737-5D05-4E4D-8B27-772AE42F78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13B-6366-4873-97CF-58C45625F01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BF1E-9991-45FA-9B6B-04CD8EE35D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A1C0-D949-4376-80EA-0D0883AF1D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3482D-2F4E-4B06-B253-0F05B146FD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7D420-54F1-41C3-8DA1-6573E73FFE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1284-F5C0-4239-A8F1-7ECF311906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1DB32-4A0D-4B86-A9AC-07D9B6ED9F0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E9523-B86C-4524-A7C1-1E5DF43B3EB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38E6-6F9A-4CB4-ADBD-17A8CF1FDC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68173-589F-4841-B3E9-2762E267B8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F236-29F3-46DE-8EE6-1107E35C9D7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52B9-CD06-4F2A-8D09-8E2FE850F96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ADF29-810F-4801-B8AE-6B8905FAE6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58878-731C-458A-B02A-33BAABEB57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CA61-965D-428B-8F59-453476EC1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9A740-41D4-4144-9349-9E0BA68697D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AB181-1C5C-4A2D-A1EF-A56D5EF18D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739EB-3E4E-416E-930B-039A957DE7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E8CA1-323B-41EE-9DFB-242BC88E68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B0759-0E0E-434A-ADFA-50E65BECA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5747-96CF-4BE9-9A45-17F5B1341F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F744-3809-4C7E-AB5A-2034F5F013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E4615-F3CA-45A4-BF2F-BE511C6883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38C83-AED7-4B5E-B23E-23D36EE324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DAAAE-DA43-4FB6-A617-18FCC2B8F3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4.png"/><Relationship Id="rId3" Type="http://schemas.openxmlformats.org/officeDocument/2006/relationships/image" Target="../media/image2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image" Target="../media/image14.png"/><Relationship Id="rId26" Type="http://schemas.openxmlformats.org/officeDocument/2006/relationships/image" Target="../media/image14.png"/><Relationship Id="rId27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4.png"/><Relationship Id="rId3" Type="http://schemas.openxmlformats.org/officeDocument/2006/relationships/image" Target="../media/image19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4.png"/><Relationship Id="rId3" Type="http://schemas.openxmlformats.org/officeDocument/2006/relationships/image" Target="../media/image22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1571760" y="1685880"/>
            <a:ext cx="6000480" cy="1238400"/>
          </a:xfrm>
          <a:prstGeom prst="rect">
            <a:avLst/>
          </a:prstGeom>
          <a:ln w="0">
            <a:noFill/>
          </a:ln>
        </p:spPr>
      </p:pic>
      <p:pic>
        <p:nvPicPr>
          <p:cNvPr id="1023" name="图片 28679" descr=""/>
          <p:cNvPicPr/>
          <p:nvPr/>
        </p:nvPicPr>
        <p:blipFill>
          <a:blip r:embed="rId2"/>
          <a:stretch/>
        </p:blipFill>
        <p:spPr>
          <a:xfrm>
            <a:off x="403200" y="3006720"/>
            <a:ext cx="81295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图片 69633" descr=""/>
          <p:cNvPicPr/>
          <p:nvPr/>
        </p:nvPicPr>
        <p:blipFill>
          <a:blip r:embed="rId1"/>
          <a:stretch/>
        </p:blipFill>
        <p:spPr>
          <a:xfrm>
            <a:off x="157320" y="803160"/>
            <a:ext cx="8829360" cy="55054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2"/>
          <a:stretch/>
        </p:blipFill>
        <p:spPr>
          <a:xfrm>
            <a:off x="250920" y="851040"/>
            <a:ext cx="5329080" cy="473040"/>
          </a:xfrm>
          <a:prstGeom prst="rect">
            <a:avLst/>
          </a:prstGeom>
          <a:ln w="0">
            <a:noFill/>
          </a:ln>
        </p:spPr>
      </p:pic>
      <p:pic>
        <p:nvPicPr>
          <p:cNvPr id="1115" name="图片 69635" descr=""/>
          <p:cNvPicPr/>
          <p:nvPr/>
        </p:nvPicPr>
        <p:blipFill>
          <a:blip r:embed="rId3"/>
          <a:stretch/>
        </p:blipFill>
        <p:spPr>
          <a:xfrm>
            <a:off x="5649840" y="876240"/>
            <a:ext cx="3257640" cy="24289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4"/>
          <a:stretch/>
        </p:blipFill>
        <p:spPr>
          <a:xfrm>
            <a:off x="193680" y="1413000"/>
            <a:ext cx="2016000" cy="4730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5"/>
          <a:stretch/>
        </p:blipFill>
        <p:spPr>
          <a:xfrm>
            <a:off x="2282760" y="1370160"/>
            <a:ext cx="3152880" cy="4730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6"/>
          <a:stretch/>
        </p:blipFill>
        <p:spPr>
          <a:xfrm>
            <a:off x="108000" y="1944720"/>
            <a:ext cx="1224000" cy="47304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7"/>
          <a:stretch/>
        </p:blipFill>
        <p:spPr>
          <a:xfrm>
            <a:off x="1389240" y="1930320"/>
            <a:ext cx="4046400" cy="47304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8"/>
          <a:stretch/>
        </p:blipFill>
        <p:spPr>
          <a:xfrm>
            <a:off x="250920" y="2506680"/>
            <a:ext cx="3673440" cy="4730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9"/>
          <a:stretch/>
        </p:blipFill>
        <p:spPr>
          <a:xfrm>
            <a:off x="3981600" y="2478240"/>
            <a:ext cx="1527120" cy="47304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10"/>
          <a:stretch/>
        </p:blipFill>
        <p:spPr>
          <a:xfrm>
            <a:off x="250920" y="3054240"/>
            <a:ext cx="5257800" cy="47304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1"/>
          <a:stretch/>
        </p:blipFill>
        <p:spPr>
          <a:xfrm>
            <a:off x="179280" y="3587760"/>
            <a:ext cx="1225800" cy="4730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2"/>
          <a:stretch/>
        </p:blipFill>
        <p:spPr>
          <a:xfrm>
            <a:off x="1417680" y="3573360"/>
            <a:ext cx="7547040" cy="4730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13"/>
          <a:stretch/>
        </p:blipFill>
        <p:spPr>
          <a:xfrm>
            <a:off x="0" y="4135320"/>
            <a:ext cx="1225440" cy="4730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14"/>
          <a:stretch/>
        </p:blipFill>
        <p:spPr>
          <a:xfrm>
            <a:off x="1258920" y="4149720"/>
            <a:ext cx="2736720" cy="4730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15"/>
          <a:stretch/>
        </p:blipFill>
        <p:spPr>
          <a:xfrm>
            <a:off x="4067280" y="4149720"/>
            <a:ext cx="3529080" cy="4730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16"/>
          <a:stretch/>
        </p:blipFill>
        <p:spPr>
          <a:xfrm>
            <a:off x="7624800" y="4164120"/>
            <a:ext cx="1268280" cy="473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17"/>
          <a:stretch/>
        </p:blipFill>
        <p:spPr>
          <a:xfrm>
            <a:off x="236520" y="4724280"/>
            <a:ext cx="735120" cy="47304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18"/>
          <a:stretch/>
        </p:blipFill>
        <p:spPr>
          <a:xfrm>
            <a:off x="1042920" y="4724280"/>
            <a:ext cx="1944720" cy="47304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19"/>
          <a:stretch/>
        </p:blipFill>
        <p:spPr>
          <a:xfrm>
            <a:off x="2987640" y="4724280"/>
            <a:ext cx="2879640" cy="4730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0"/>
          <a:stretch/>
        </p:blipFill>
        <p:spPr>
          <a:xfrm>
            <a:off x="5867280" y="4710240"/>
            <a:ext cx="3097440" cy="4730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21"/>
          <a:stretch/>
        </p:blipFill>
        <p:spPr>
          <a:xfrm>
            <a:off x="264960" y="5286240"/>
            <a:ext cx="6626520" cy="47304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22"/>
          <a:stretch/>
        </p:blipFill>
        <p:spPr>
          <a:xfrm>
            <a:off x="6948360" y="5257800"/>
            <a:ext cx="1871640" cy="4730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3"/>
          <a:stretch/>
        </p:blipFill>
        <p:spPr>
          <a:xfrm>
            <a:off x="324000" y="5805360"/>
            <a:ext cx="734760" cy="4730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24"/>
          <a:stretch/>
        </p:blipFill>
        <p:spPr>
          <a:xfrm>
            <a:off x="1042920" y="5805360"/>
            <a:ext cx="2665440" cy="4730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25"/>
          <a:stretch/>
        </p:blipFill>
        <p:spPr>
          <a:xfrm>
            <a:off x="3708360" y="5805360"/>
            <a:ext cx="3168720" cy="4730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26"/>
          <a:stretch/>
        </p:blipFill>
        <p:spPr>
          <a:xfrm>
            <a:off x="6877080" y="5819760"/>
            <a:ext cx="2087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0" dur="10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4" dur="10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4" dur="10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8" dur="10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3" dur="10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1000"/>
                            </p:stCondLst>
                            <p:childTnLst>
                              <p:par>
                                <p:cTn id="42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7" dur="10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2" dur="10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6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fill="hold">
                            <p:stCondLst>
                              <p:cond delay="2000"/>
                            </p:stCondLst>
                            <p:childTnLst>
                              <p:par>
                                <p:cTn id="43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0" dur="10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5" dur="10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4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9" dur="10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4" dur="10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9" dur="10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4" dur="10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000"/>
                            </p:stCondLst>
                            <p:childTnLst>
                              <p:par>
                                <p:cTn id="4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8" dur="10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3" dur="10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8" dur="10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3" dur="10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48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7" dur="10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2" dur="10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1000"/>
                            </p:stCondLst>
                            <p:childTnLst>
                              <p:par>
                                <p:cTn id="49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6" dur="10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1" dur="10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6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1" dur="10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68609" descr=""/>
          <p:cNvPicPr/>
          <p:nvPr/>
        </p:nvPicPr>
        <p:blipFill>
          <a:blip r:embed="rId1"/>
          <a:stretch/>
        </p:blipFill>
        <p:spPr>
          <a:xfrm>
            <a:off x="237960" y="876240"/>
            <a:ext cx="8668080" cy="564840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324000" y="865080"/>
            <a:ext cx="5688000" cy="14986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250920" y="2492280"/>
            <a:ext cx="4321080" cy="4730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4643280" y="2435400"/>
            <a:ext cx="3313440" cy="4730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295200" y="3040200"/>
            <a:ext cx="3816360" cy="4730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6"/>
          <a:stretch/>
        </p:blipFill>
        <p:spPr>
          <a:xfrm>
            <a:off x="4140360" y="2997360"/>
            <a:ext cx="1871640" cy="47304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" descr=""/>
          <p:cNvPicPr/>
          <p:nvPr/>
        </p:nvPicPr>
        <p:blipFill>
          <a:blip r:embed="rId7"/>
          <a:stretch/>
        </p:blipFill>
        <p:spPr>
          <a:xfrm>
            <a:off x="6012000" y="2997360"/>
            <a:ext cx="2881080" cy="47304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" descr=""/>
          <p:cNvPicPr/>
          <p:nvPr/>
        </p:nvPicPr>
        <p:blipFill>
          <a:blip r:embed="rId8"/>
          <a:stretch/>
        </p:blipFill>
        <p:spPr>
          <a:xfrm>
            <a:off x="165240" y="3789360"/>
            <a:ext cx="1728720" cy="47304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" descr=""/>
          <p:cNvPicPr/>
          <p:nvPr/>
        </p:nvPicPr>
        <p:blipFill>
          <a:blip r:embed="rId9"/>
          <a:stretch/>
        </p:blipFill>
        <p:spPr>
          <a:xfrm>
            <a:off x="1908000" y="3789360"/>
            <a:ext cx="3527640" cy="47304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" descr=""/>
          <p:cNvPicPr/>
          <p:nvPr/>
        </p:nvPicPr>
        <p:blipFill>
          <a:blip r:embed="rId10"/>
          <a:stretch/>
        </p:blipFill>
        <p:spPr>
          <a:xfrm>
            <a:off x="5435640" y="3645000"/>
            <a:ext cx="2305080" cy="79200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" descr=""/>
          <p:cNvPicPr/>
          <p:nvPr/>
        </p:nvPicPr>
        <p:blipFill>
          <a:blip r:embed="rId11"/>
          <a:stretch/>
        </p:blipFill>
        <p:spPr>
          <a:xfrm>
            <a:off x="7740720" y="378936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1" descr=""/>
          <p:cNvPicPr/>
          <p:nvPr/>
        </p:nvPicPr>
        <p:blipFill>
          <a:blip r:embed="rId12"/>
          <a:stretch/>
        </p:blipFill>
        <p:spPr>
          <a:xfrm>
            <a:off x="0" y="4767120"/>
            <a:ext cx="2627280" cy="47304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1" descr=""/>
          <p:cNvPicPr/>
          <p:nvPr/>
        </p:nvPicPr>
        <p:blipFill>
          <a:blip r:embed="rId13"/>
          <a:stretch/>
        </p:blipFill>
        <p:spPr>
          <a:xfrm>
            <a:off x="2627280" y="4581360"/>
            <a:ext cx="2160720" cy="79236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1" descr=""/>
          <p:cNvPicPr/>
          <p:nvPr/>
        </p:nvPicPr>
        <p:blipFill>
          <a:blip r:embed="rId14"/>
          <a:stretch/>
        </p:blipFill>
        <p:spPr>
          <a:xfrm>
            <a:off x="4859280" y="4581360"/>
            <a:ext cx="3745080" cy="79236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1" descr=""/>
          <p:cNvPicPr/>
          <p:nvPr/>
        </p:nvPicPr>
        <p:blipFill>
          <a:blip r:embed="rId15"/>
          <a:stretch/>
        </p:blipFill>
        <p:spPr>
          <a:xfrm>
            <a:off x="250920" y="5573880"/>
            <a:ext cx="374472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3" dur="indefinite" restart="never" nodeType="tmRoot">
          <p:childTnLst>
            <p:seq>
              <p:cTn id="514" dur="indefinite" nodeType="mainSeq">
                <p:childTnLst>
                  <p:par>
                    <p:cTn id="515" fill="hold">
                      <p:stCondLst>
                        <p:cond delay="0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8" dur="10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3" dur="10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8" dur="10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3" dur="10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8" dur="10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3" dur="10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7" dur="10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2" dur="1000"/>
                                        <p:tgtEl>
                                          <p:spTgt spid="1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7" dur="1000"/>
                                        <p:tgtEl>
                                          <p:spTgt spid="1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2" dur="1000"/>
                                        <p:tgtEl>
                                          <p:spTgt spid="1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000"/>
                            </p:stCondLst>
                            <p:childTnLst>
                              <p:par>
                                <p:cTn id="56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6" dur="1000"/>
                                        <p:tgtEl>
                                          <p:spTgt spid="1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1" dur="10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6" dur="10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1" dur="1000"/>
                                        <p:tgtEl>
                                          <p:spTgt spid="1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图片 60428" descr=""/>
          <p:cNvPicPr/>
          <p:nvPr/>
        </p:nvPicPr>
        <p:blipFill>
          <a:blip r:embed="rId1"/>
          <a:stretch/>
        </p:blipFill>
        <p:spPr>
          <a:xfrm>
            <a:off x="181080" y="1400040"/>
            <a:ext cx="8781840" cy="405792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2"/>
          <a:stretch/>
        </p:blipFill>
        <p:spPr>
          <a:xfrm>
            <a:off x="179280" y="2637000"/>
            <a:ext cx="5256360" cy="4730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3"/>
          <a:stretch/>
        </p:blipFill>
        <p:spPr>
          <a:xfrm>
            <a:off x="5494320" y="2579760"/>
            <a:ext cx="533520" cy="4730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4"/>
          <a:stretch/>
        </p:blipFill>
        <p:spPr>
          <a:xfrm>
            <a:off x="179280" y="3170160"/>
            <a:ext cx="3816360" cy="4730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5"/>
          <a:stretch/>
        </p:blipFill>
        <p:spPr>
          <a:xfrm>
            <a:off x="4067280" y="3141720"/>
            <a:ext cx="1873080" cy="47304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6"/>
          <a:stretch/>
        </p:blipFill>
        <p:spPr>
          <a:xfrm>
            <a:off x="108000" y="3716280"/>
            <a:ext cx="1152360" cy="47304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7"/>
          <a:stretch/>
        </p:blipFill>
        <p:spPr>
          <a:xfrm>
            <a:off x="1332000" y="3687840"/>
            <a:ext cx="4103640" cy="4730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8"/>
          <a:stretch/>
        </p:blipFill>
        <p:spPr>
          <a:xfrm>
            <a:off x="5494320" y="3716280"/>
            <a:ext cx="533520" cy="4730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9"/>
          <a:stretch/>
        </p:blipFill>
        <p:spPr>
          <a:xfrm>
            <a:off x="250920" y="4235400"/>
            <a:ext cx="1800000" cy="4730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10"/>
          <a:stretch/>
        </p:blipFill>
        <p:spPr>
          <a:xfrm>
            <a:off x="2124000" y="4221000"/>
            <a:ext cx="3743280" cy="47340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11"/>
          <a:stretch/>
        </p:blipFill>
        <p:spPr>
          <a:xfrm>
            <a:off x="252360" y="4797360"/>
            <a:ext cx="792360" cy="473040"/>
          </a:xfrm>
          <a:prstGeom prst="rect">
            <a:avLst/>
          </a:prstGeom>
          <a:ln w="0">
            <a:noFill/>
          </a:ln>
        </p:spPr>
      </p:pic>
      <p:pic>
        <p:nvPicPr>
          <p:cNvPr id="1035" name="Picture 1" descr=""/>
          <p:cNvPicPr/>
          <p:nvPr/>
        </p:nvPicPr>
        <p:blipFill>
          <a:blip r:embed="rId12"/>
          <a:stretch/>
        </p:blipFill>
        <p:spPr>
          <a:xfrm>
            <a:off x="1042920" y="4797360"/>
            <a:ext cx="3168720" cy="47304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13"/>
          <a:stretch/>
        </p:blipFill>
        <p:spPr>
          <a:xfrm>
            <a:off x="4211640" y="4753080"/>
            <a:ext cx="252108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图片 59410" descr=""/>
          <p:cNvPicPr/>
          <p:nvPr/>
        </p:nvPicPr>
        <p:blipFill>
          <a:blip r:embed="rId1"/>
          <a:stretch/>
        </p:blipFill>
        <p:spPr>
          <a:xfrm>
            <a:off x="219240" y="768240"/>
            <a:ext cx="8705520" cy="5829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2"/>
          <a:stretch/>
        </p:blipFill>
        <p:spPr>
          <a:xfrm>
            <a:off x="179280" y="2333520"/>
            <a:ext cx="5400720" cy="473040"/>
          </a:xfrm>
          <a:prstGeom prst="rect">
            <a:avLst/>
          </a:prstGeom>
          <a:ln w="0">
            <a:noFill/>
          </a:ln>
        </p:spPr>
      </p:pic>
      <p:pic>
        <p:nvPicPr>
          <p:cNvPr id="1039" name="图片 59412" descr=""/>
          <p:cNvPicPr/>
          <p:nvPr/>
        </p:nvPicPr>
        <p:blipFill>
          <a:blip r:embed="rId3"/>
          <a:stretch/>
        </p:blipFill>
        <p:spPr>
          <a:xfrm>
            <a:off x="5753160" y="2405160"/>
            <a:ext cx="3105000" cy="19810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4"/>
          <a:stretch/>
        </p:blipFill>
        <p:spPr>
          <a:xfrm>
            <a:off x="85680" y="2881440"/>
            <a:ext cx="1965240" cy="47304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5"/>
          <a:stretch/>
        </p:blipFill>
        <p:spPr>
          <a:xfrm>
            <a:off x="2181240" y="2867040"/>
            <a:ext cx="3398760" cy="47304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6"/>
          <a:stretch/>
        </p:blipFill>
        <p:spPr>
          <a:xfrm>
            <a:off x="42840" y="3429000"/>
            <a:ext cx="798480" cy="4730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7"/>
          <a:stretch/>
        </p:blipFill>
        <p:spPr>
          <a:xfrm>
            <a:off x="900000" y="3429000"/>
            <a:ext cx="4608720" cy="4730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8"/>
          <a:stretch/>
        </p:blipFill>
        <p:spPr>
          <a:xfrm>
            <a:off x="179280" y="3962520"/>
            <a:ext cx="3384720" cy="4730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9"/>
          <a:stretch/>
        </p:blipFill>
        <p:spPr>
          <a:xfrm>
            <a:off x="3592440" y="3933720"/>
            <a:ext cx="1944720" cy="473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10"/>
          <a:stretch/>
        </p:blipFill>
        <p:spPr>
          <a:xfrm>
            <a:off x="165240" y="4508640"/>
            <a:ext cx="5905440" cy="47304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1"/>
          <a:stretch/>
        </p:blipFill>
        <p:spPr>
          <a:xfrm>
            <a:off x="6084720" y="4508640"/>
            <a:ext cx="2808360" cy="4730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12"/>
          <a:stretch/>
        </p:blipFill>
        <p:spPr>
          <a:xfrm>
            <a:off x="250920" y="5013360"/>
            <a:ext cx="1368360" cy="4730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13"/>
          <a:stretch/>
        </p:blipFill>
        <p:spPr>
          <a:xfrm>
            <a:off x="1619280" y="5027760"/>
            <a:ext cx="2952720" cy="47304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14"/>
          <a:stretch/>
        </p:blipFill>
        <p:spPr>
          <a:xfrm>
            <a:off x="4586400" y="5027760"/>
            <a:ext cx="3801960" cy="473040"/>
          </a:xfrm>
          <a:prstGeom prst="rect">
            <a:avLst/>
          </a:prstGeom>
          <a:ln w="0">
            <a:noFill/>
          </a:ln>
        </p:spPr>
      </p:pic>
      <p:pic>
        <p:nvPicPr>
          <p:cNvPr id="1051" name="Picture 1" descr=""/>
          <p:cNvPicPr/>
          <p:nvPr/>
        </p:nvPicPr>
        <p:blipFill>
          <a:blip r:embed="rId15"/>
          <a:stretch/>
        </p:blipFill>
        <p:spPr>
          <a:xfrm>
            <a:off x="8388360" y="5041800"/>
            <a:ext cx="533520" cy="473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16"/>
          <a:stretch/>
        </p:blipFill>
        <p:spPr>
          <a:xfrm>
            <a:off x="179280" y="5589720"/>
            <a:ext cx="1656000" cy="47304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17"/>
          <a:stretch/>
        </p:blipFill>
        <p:spPr>
          <a:xfrm>
            <a:off x="1835280" y="5589720"/>
            <a:ext cx="1944720" cy="47304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18"/>
          <a:stretch/>
        </p:blipFill>
        <p:spPr>
          <a:xfrm>
            <a:off x="3794040" y="5589720"/>
            <a:ext cx="1944720" cy="47304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19"/>
          <a:stretch/>
        </p:blipFill>
        <p:spPr>
          <a:xfrm>
            <a:off x="5796000" y="5589720"/>
            <a:ext cx="3097080" cy="47304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20"/>
          <a:stretch/>
        </p:blipFill>
        <p:spPr>
          <a:xfrm>
            <a:off x="179280" y="6165720"/>
            <a:ext cx="78487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7" name="图片 58373" descr=""/>
          <p:cNvPicPr/>
          <p:nvPr/>
        </p:nvPicPr>
        <p:blipFill>
          <a:blip r:embed="rId1"/>
          <a:stretch/>
        </p:blipFill>
        <p:spPr>
          <a:xfrm>
            <a:off x="966960" y="1652760"/>
            <a:ext cx="7210080" cy="355248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2"/>
          <a:stretch/>
        </p:blipFill>
        <p:spPr>
          <a:xfrm>
            <a:off x="1042920" y="1671480"/>
            <a:ext cx="7274160" cy="4734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3"/>
          <a:stretch/>
        </p:blipFill>
        <p:spPr>
          <a:xfrm>
            <a:off x="900000" y="2276640"/>
            <a:ext cx="7274160" cy="1512720"/>
          </a:xfrm>
          <a:prstGeom prst="rect">
            <a:avLst/>
          </a:prstGeom>
          <a:ln w="0">
            <a:noFill/>
          </a:ln>
        </p:spPr>
      </p:pic>
      <p:pic>
        <p:nvPicPr>
          <p:cNvPr id="1060" name="Picture 1" descr=""/>
          <p:cNvPicPr/>
          <p:nvPr/>
        </p:nvPicPr>
        <p:blipFill>
          <a:blip r:embed="rId4"/>
          <a:stretch/>
        </p:blipFill>
        <p:spPr>
          <a:xfrm>
            <a:off x="1042920" y="3803760"/>
            <a:ext cx="7274160" cy="473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5"/>
          <a:stretch/>
        </p:blipFill>
        <p:spPr>
          <a:xfrm>
            <a:off x="900000" y="4437000"/>
            <a:ext cx="72741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2" name="图片 57352" descr=""/>
          <p:cNvPicPr/>
          <p:nvPr/>
        </p:nvPicPr>
        <p:blipFill>
          <a:blip r:embed="rId1"/>
          <a:stretch/>
        </p:blipFill>
        <p:spPr>
          <a:xfrm>
            <a:off x="190440" y="738360"/>
            <a:ext cx="8763120" cy="538128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2"/>
          <a:stretch/>
        </p:blipFill>
        <p:spPr>
          <a:xfrm>
            <a:off x="250920" y="2421000"/>
            <a:ext cx="4681440" cy="473040"/>
          </a:xfrm>
          <a:prstGeom prst="rect">
            <a:avLst/>
          </a:prstGeom>
          <a:ln w="0">
            <a:noFill/>
          </a:ln>
        </p:spPr>
      </p:pic>
      <p:pic>
        <p:nvPicPr>
          <p:cNvPr id="1064" name="图片 57354" descr=""/>
          <p:cNvPicPr/>
          <p:nvPr/>
        </p:nvPicPr>
        <p:blipFill>
          <a:blip r:embed="rId3"/>
          <a:stretch/>
        </p:blipFill>
        <p:spPr>
          <a:xfrm>
            <a:off x="5275440" y="2449440"/>
            <a:ext cx="3533760" cy="209556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4"/>
          <a:stretch/>
        </p:blipFill>
        <p:spPr>
          <a:xfrm>
            <a:off x="250920" y="2997360"/>
            <a:ext cx="4105080" cy="47304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5"/>
          <a:stretch/>
        </p:blipFill>
        <p:spPr>
          <a:xfrm>
            <a:off x="4572000" y="2924280"/>
            <a:ext cx="533520" cy="47304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6"/>
          <a:stretch/>
        </p:blipFill>
        <p:spPr>
          <a:xfrm>
            <a:off x="264960" y="3500280"/>
            <a:ext cx="3745080" cy="47340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7"/>
          <a:stretch/>
        </p:blipFill>
        <p:spPr>
          <a:xfrm>
            <a:off x="4067280" y="3486240"/>
            <a:ext cx="1009440" cy="47304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8"/>
          <a:stretch/>
        </p:blipFill>
        <p:spPr>
          <a:xfrm>
            <a:off x="179280" y="4005360"/>
            <a:ext cx="4897440" cy="47304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9"/>
          <a:stretch/>
        </p:blipFill>
        <p:spPr>
          <a:xfrm>
            <a:off x="0" y="4581360"/>
            <a:ext cx="2556000" cy="473400"/>
          </a:xfrm>
          <a:prstGeom prst="rect">
            <a:avLst/>
          </a:prstGeom>
          <a:ln w="0">
            <a:noFill/>
          </a:ln>
        </p:spPr>
      </p:pic>
      <p:pic>
        <p:nvPicPr>
          <p:cNvPr id="1071" name="Picture 1" descr=""/>
          <p:cNvPicPr/>
          <p:nvPr/>
        </p:nvPicPr>
        <p:blipFill>
          <a:blip r:embed="rId10"/>
          <a:stretch/>
        </p:blipFill>
        <p:spPr>
          <a:xfrm>
            <a:off x="2627280" y="4581360"/>
            <a:ext cx="6265800" cy="47340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11"/>
          <a:stretch/>
        </p:blipFill>
        <p:spPr>
          <a:xfrm>
            <a:off x="14400" y="5129280"/>
            <a:ext cx="2411280" cy="4730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12"/>
          <a:stretch/>
        </p:blipFill>
        <p:spPr>
          <a:xfrm>
            <a:off x="2484360" y="5129280"/>
            <a:ext cx="4175280" cy="4730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13"/>
          <a:stretch/>
        </p:blipFill>
        <p:spPr>
          <a:xfrm>
            <a:off x="6659640" y="5099040"/>
            <a:ext cx="2233440" cy="473040"/>
          </a:xfrm>
          <a:prstGeom prst="rect">
            <a:avLst/>
          </a:prstGeom>
          <a:ln w="0">
            <a:noFill/>
          </a:ln>
        </p:spPr>
      </p:pic>
      <p:pic>
        <p:nvPicPr>
          <p:cNvPr id="1075" name="Picture 1" descr=""/>
          <p:cNvPicPr/>
          <p:nvPr/>
        </p:nvPicPr>
        <p:blipFill>
          <a:blip r:embed="rId14"/>
          <a:stretch/>
        </p:blipFill>
        <p:spPr>
          <a:xfrm>
            <a:off x="79200" y="5691240"/>
            <a:ext cx="936720" cy="47304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15"/>
          <a:stretch/>
        </p:blipFill>
        <p:spPr>
          <a:xfrm>
            <a:off x="1042920" y="5675400"/>
            <a:ext cx="5761080" cy="47304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16"/>
          <a:stretch/>
        </p:blipFill>
        <p:spPr>
          <a:xfrm>
            <a:off x="6877080" y="5661000"/>
            <a:ext cx="2087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1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5" dur="5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9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2000"/>
                            </p:stCondLst>
                            <p:childTnLst>
                              <p:par>
                                <p:cTn id="20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1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6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56324" descr=""/>
          <p:cNvPicPr/>
          <p:nvPr/>
        </p:nvPicPr>
        <p:blipFill>
          <a:blip r:embed="rId1"/>
          <a:stretch/>
        </p:blipFill>
        <p:spPr>
          <a:xfrm>
            <a:off x="204840" y="1814400"/>
            <a:ext cx="8734320" cy="322920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2160360" cy="4730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2498760" y="1773360"/>
            <a:ext cx="4378320" cy="47304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6891480" y="1758960"/>
            <a:ext cx="2001600" cy="4730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250920" y="2290680"/>
            <a:ext cx="2219400" cy="4730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2484360" y="2349360"/>
            <a:ext cx="4319640" cy="473040"/>
          </a:xfrm>
          <a:prstGeom prst="rect">
            <a:avLst/>
          </a:prstGeom>
          <a:ln w="0">
            <a:noFill/>
          </a:ln>
        </p:spPr>
      </p:pic>
      <p:pic>
        <p:nvPicPr>
          <p:cNvPr id="1084" name="Picture 1" descr=""/>
          <p:cNvPicPr/>
          <p:nvPr/>
        </p:nvPicPr>
        <p:blipFill>
          <a:blip r:embed="rId7"/>
          <a:stretch/>
        </p:blipFill>
        <p:spPr>
          <a:xfrm>
            <a:off x="250920" y="2924280"/>
            <a:ext cx="3097080" cy="151272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8"/>
          <a:stretch/>
        </p:blipFill>
        <p:spPr>
          <a:xfrm>
            <a:off x="3419640" y="3386160"/>
            <a:ext cx="4105080" cy="4730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9"/>
          <a:stretch/>
        </p:blipFill>
        <p:spPr>
          <a:xfrm>
            <a:off x="7524720" y="3386160"/>
            <a:ext cx="1368360" cy="47304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10"/>
          <a:stretch/>
        </p:blipFill>
        <p:spPr>
          <a:xfrm>
            <a:off x="279360" y="4508640"/>
            <a:ext cx="792360" cy="4730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11"/>
          <a:stretch/>
        </p:blipFill>
        <p:spPr>
          <a:xfrm>
            <a:off x="1116000" y="4479840"/>
            <a:ext cx="1871640" cy="4730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12"/>
          <a:stretch/>
        </p:blipFill>
        <p:spPr>
          <a:xfrm>
            <a:off x="2987640" y="4494240"/>
            <a:ext cx="18716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1000"/>
                            </p:stCondLst>
                            <p:childTnLst>
                              <p:par>
                                <p:cTn id="26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0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5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55300" descr=""/>
          <p:cNvPicPr/>
          <p:nvPr/>
        </p:nvPicPr>
        <p:blipFill>
          <a:blip r:embed="rId1"/>
          <a:stretch/>
        </p:blipFill>
        <p:spPr>
          <a:xfrm>
            <a:off x="209520" y="860400"/>
            <a:ext cx="8724960" cy="5448240"/>
          </a:xfrm>
          <a:prstGeom prst="rect">
            <a:avLst/>
          </a:prstGeom>
          <a:ln w="0">
            <a:noFill/>
          </a:ln>
        </p:spPr>
      </p:pic>
      <p:pic>
        <p:nvPicPr>
          <p:cNvPr id="1091" name="Picture 1" descr=""/>
          <p:cNvPicPr/>
          <p:nvPr/>
        </p:nvPicPr>
        <p:blipFill>
          <a:blip r:embed="rId2"/>
          <a:stretch/>
        </p:blipFill>
        <p:spPr>
          <a:xfrm>
            <a:off x="250920" y="2565360"/>
            <a:ext cx="4825800" cy="473040"/>
          </a:xfrm>
          <a:prstGeom prst="rect">
            <a:avLst/>
          </a:prstGeom>
          <a:ln w="0">
            <a:noFill/>
          </a:ln>
        </p:spPr>
      </p:pic>
      <p:pic>
        <p:nvPicPr>
          <p:cNvPr id="1092" name="图片 55302" descr=""/>
          <p:cNvPicPr/>
          <p:nvPr/>
        </p:nvPicPr>
        <p:blipFill>
          <a:blip r:embed="rId3"/>
          <a:stretch/>
        </p:blipFill>
        <p:spPr>
          <a:xfrm>
            <a:off x="5291280" y="2376360"/>
            <a:ext cx="3581280" cy="244800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179280" y="3127320"/>
            <a:ext cx="2016360" cy="47304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2239920" y="3083040"/>
            <a:ext cx="2836800" cy="473040"/>
          </a:xfrm>
          <a:prstGeom prst="rect">
            <a:avLst/>
          </a:prstGeom>
          <a:ln w="0">
            <a:noFill/>
          </a:ln>
        </p:spPr>
      </p:pic>
      <p:pic>
        <p:nvPicPr>
          <p:cNvPr id="1095" name="Picture 1" descr=""/>
          <p:cNvPicPr/>
          <p:nvPr/>
        </p:nvPicPr>
        <p:blipFill>
          <a:blip r:embed="rId6"/>
          <a:stretch/>
        </p:blipFill>
        <p:spPr>
          <a:xfrm>
            <a:off x="179280" y="3645000"/>
            <a:ext cx="1368360" cy="47304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7"/>
          <a:stretch/>
        </p:blipFill>
        <p:spPr>
          <a:xfrm>
            <a:off x="1619280" y="3630600"/>
            <a:ext cx="3457440" cy="47304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8"/>
          <a:stretch/>
        </p:blipFill>
        <p:spPr>
          <a:xfrm>
            <a:off x="179280" y="4178160"/>
            <a:ext cx="4392720" cy="47304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9"/>
          <a:stretch/>
        </p:blipFill>
        <p:spPr>
          <a:xfrm>
            <a:off x="4643280" y="4149720"/>
            <a:ext cx="533520" cy="473040"/>
          </a:xfrm>
          <a:prstGeom prst="rect">
            <a:avLst/>
          </a:prstGeom>
          <a:ln w="0">
            <a:noFill/>
          </a:ln>
        </p:spPr>
      </p:pic>
      <p:pic>
        <p:nvPicPr>
          <p:cNvPr id="1099" name="Picture 1" descr=""/>
          <p:cNvPicPr/>
          <p:nvPr/>
        </p:nvPicPr>
        <p:blipFill>
          <a:blip r:embed="rId10"/>
          <a:stretch/>
        </p:blipFill>
        <p:spPr>
          <a:xfrm>
            <a:off x="250920" y="4724280"/>
            <a:ext cx="7705800" cy="473040"/>
          </a:xfrm>
          <a:prstGeom prst="rect">
            <a:avLst/>
          </a:prstGeom>
          <a:ln w="0">
            <a:noFill/>
          </a:ln>
        </p:spPr>
      </p:pic>
      <p:pic>
        <p:nvPicPr>
          <p:cNvPr id="1100" name="Picture 1" descr=""/>
          <p:cNvPicPr/>
          <p:nvPr/>
        </p:nvPicPr>
        <p:blipFill>
          <a:blip r:embed="rId11"/>
          <a:stretch/>
        </p:blipFill>
        <p:spPr>
          <a:xfrm>
            <a:off x="179280" y="5315040"/>
            <a:ext cx="8713800" cy="4730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12"/>
          <a:stretch/>
        </p:blipFill>
        <p:spPr>
          <a:xfrm>
            <a:off x="179280" y="5848200"/>
            <a:ext cx="2089080" cy="4734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13"/>
          <a:stretch/>
        </p:blipFill>
        <p:spPr>
          <a:xfrm>
            <a:off x="2268360" y="5848200"/>
            <a:ext cx="1943280" cy="4734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14"/>
          <a:stretch/>
        </p:blipFill>
        <p:spPr>
          <a:xfrm>
            <a:off x="4284720" y="5862600"/>
            <a:ext cx="1942920" cy="47304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15"/>
          <a:stretch/>
        </p:blipFill>
        <p:spPr>
          <a:xfrm>
            <a:off x="6227640" y="5819760"/>
            <a:ext cx="266544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1000"/>
                                        <p:tgtEl>
                                          <p:spTgt spid="10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0" dur="5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5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9" dur="1000"/>
                                        <p:tgtEl>
                                          <p:spTgt spid="10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4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1000"/>
                            </p:stCondLst>
                            <p:childTnLst>
                              <p:par>
                                <p:cTn id="32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3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7" dur="1000"/>
                                        <p:tgtEl>
                                          <p:spTgt spid="10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5" name="图片 54276" descr=""/>
          <p:cNvPicPr/>
          <p:nvPr/>
        </p:nvPicPr>
        <p:blipFill>
          <a:blip r:embed="rId1"/>
          <a:stretch/>
        </p:blipFill>
        <p:spPr>
          <a:xfrm>
            <a:off x="252360" y="2052720"/>
            <a:ext cx="8639280" cy="2752560"/>
          </a:xfrm>
          <a:prstGeom prst="rect">
            <a:avLst/>
          </a:prstGeom>
          <a:ln w="0">
            <a:noFill/>
          </a:ln>
        </p:spPr>
      </p:pic>
      <p:pic>
        <p:nvPicPr>
          <p:cNvPr id="1106" name="Picture 1" descr=""/>
          <p:cNvPicPr/>
          <p:nvPr/>
        </p:nvPicPr>
        <p:blipFill>
          <a:blip r:embed="rId2"/>
          <a:stretch/>
        </p:blipFill>
        <p:spPr>
          <a:xfrm>
            <a:off x="179280" y="2090880"/>
            <a:ext cx="5472360" cy="47304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" descr=""/>
          <p:cNvPicPr/>
          <p:nvPr/>
        </p:nvPicPr>
        <p:blipFill>
          <a:blip r:embed="rId3"/>
          <a:stretch/>
        </p:blipFill>
        <p:spPr>
          <a:xfrm>
            <a:off x="5665680" y="2060640"/>
            <a:ext cx="3227400" cy="47304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4"/>
          <a:stretch/>
        </p:blipFill>
        <p:spPr>
          <a:xfrm>
            <a:off x="179280" y="2679840"/>
            <a:ext cx="6985080" cy="154116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5"/>
          <a:stretch/>
        </p:blipFill>
        <p:spPr>
          <a:xfrm>
            <a:off x="7236000" y="3170160"/>
            <a:ext cx="1728720" cy="47304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6"/>
          <a:stretch/>
        </p:blipFill>
        <p:spPr>
          <a:xfrm>
            <a:off x="179280" y="4292640"/>
            <a:ext cx="2448000" cy="4730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7"/>
          <a:stretch/>
        </p:blipFill>
        <p:spPr>
          <a:xfrm>
            <a:off x="2627280" y="4278240"/>
            <a:ext cx="259236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9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9" dur="10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4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8" dur="10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3" dur="10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52231" descr=""/>
          <p:cNvPicPr/>
          <p:nvPr/>
        </p:nvPicPr>
        <p:blipFill>
          <a:blip r:embed="rId1"/>
          <a:stretch/>
        </p:blipFill>
        <p:spPr>
          <a:xfrm>
            <a:off x="223920" y="1895400"/>
            <a:ext cx="869616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8:27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